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27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2.wmf" ContentType="image/x-wmf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CD5A-9A56-47DA-970A-202394E0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5A4-8BD6-4423-BF85-A5C356A8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E3F8-81E0-4172-BACB-433375AB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6E59-72D3-48E9-9F06-9A22D566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7E26-C3CA-4FCF-9FF2-A0783155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81C5-065F-4621-A00B-BE8BAD7C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FBAB-D2BF-49C7-A331-BB3EC360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E7D0-8793-4CAE-A091-8C08F6CD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6431-92AF-47D6-8F31-26A78F9C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88FA-F1AA-441A-840F-9AFB650A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A3F1-2A58-4485-96B4-BCE7C3DC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574-0294-42BC-9A75-9D67580A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C9DA-192F-4E6A-9A57-C364D318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AA7E-26E9-410D-974D-848FFACD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D6DD-F71C-4507-8FFF-80B99EF6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602B-2131-43CF-AA14-00B15A11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CD87-A466-41B3-B17A-A8D9D4CE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8B6-AD05-489C-9AC4-1382530F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4DDD-9A2F-439B-85AB-7C200102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23A-F2A9-4415-BCCB-62FF23EF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E5FE-2A63-4A1D-A7E2-1F51DE70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668E-8474-423D-9C24-589D45D6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F0C6-D4E7-47D2-8EE4-D24045B7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190B-4E7D-4952-8DCE-787A6E0A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7584-9D7E-402A-9DA4-EA0F9303D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209C-BAC1-48FA-96E3-B9F0D692C6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tion and Velocity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se Study: ca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H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issa Farm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rs That Can Mov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52280" y="446724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SSC Ultimate Aero Red doors open"/>
          <p:cNvPicPr/>
          <p:nvPr/>
        </p:nvPicPr>
        <p:blipFill>
          <a:blip r:embed="rId4"/>
          <a:stretch/>
        </p:blipFill>
        <p:spPr>
          <a:xfrm>
            <a:off x="4343400" y="1523880"/>
            <a:ext cx="4343400" cy="2379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Bugatti Veyron front view driving"/>
          <p:cNvPicPr/>
          <p:nvPr/>
        </p:nvPicPr>
        <p:blipFill>
          <a:blip r:embed="rId5"/>
          <a:stretch/>
        </p:blipFill>
        <p:spPr>
          <a:xfrm>
            <a:off x="4114800" y="4191120"/>
            <a:ext cx="4343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makes a car mov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ines converting electrical stored energy into kinetic ener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stons and Crank Shaf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y wheel and Gear Bo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ive Shaf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els and Friction on the Road: Moment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ducing Ener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so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t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743200" y="2057400"/>
            <a:ext cx="3381480" cy="2249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7238880" y="4648320"/>
            <a:ext cx="1676520" cy="1962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7010280" y="2743200"/>
            <a:ext cx="1962360" cy="1747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5181480" y="4800600"/>
            <a:ext cx="2009880" cy="1847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2514600" y="4800600"/>
            <a:ext cx="25239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y Car Mode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676920" y="838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2057400" y="1600200"/>
            <a:ext cx="2400480" cy="190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4800600" y="31240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133720" y="4876920"/>
            <a:ext cx="1752480" cy="1981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4267080" y="1676520"/>
            <a:ext cx="2590920" cy="1885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2057400" y="3352680"/>
            <a:ext cx="2819520" cy="1838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6885000" y="2666880"/>
            <a:ext cx="2259000" cy="2608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1"/>
          <a:stretch/>
        </p:blipFill>
        <p:spPr>
          <a:xfrm>
            <a:off x="6229440" y="5286240"/>
            <a:ext cx="2914560" cy="1571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2"/>
          <a:stretch/>
        </p:blipFill>
        <p:spPr>
          <a:xfrm>
            <a:off x="3733920" y="5116680"/>
            <a:ext cx="2514600" cy="1741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3"/>
          <a:stretch/>
        </p:blipFill>
        <p:spPr>
          <a:xfrm>
            <a:off x="0" y="2438280"/>
            <a:ext cx="204300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enar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linois Valley Toy Car Company is looking for a new toy car design. The company wants a car that will reach the fastest velocity and that is made out of recycled material. Your job is to come up with a prototype for this compan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sential: How and why do things mo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: What is mo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: How do you measure mo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es Us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ion Pro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udents will be measuring the velocity of their created c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ree prototypes (one being the fin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culate velocity (change in displacement / change in time). Three trials for each prototype calculating the average for eac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llecting data and interpreting graphs from motion prob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are two sets of da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sibly the motion gates (not used in sandbox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ssessment Timelin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efore project work beg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KWL: gain prior knowledge along with short reading on mo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aily open-ended questions about mo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Brochure activity on specific car company. Rubric and brochure template provide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Guide through rubric for car projec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Group planning sessions. Sketches along with material lis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udents work on projects and complete tas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aily journal of progres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Checklists for students to work through for lab report. Lab reports will be presented as an engineering work sampl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Final project along with data collecti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aily open-ended questions about projec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fter project work is complet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ork Samp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are data from other groups. (Maybe using wiki space to down load every work sample. Students make ask three questions, two complaints, one suggestion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vise work sampl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lf assessment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aily open-ended questions about mo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ochure Checklis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90920" y="1219320"/>
            <a:ext cx="464796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tudent Sample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(brochure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693396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ochure Sa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38080" y="1801800"/>
            <a:ext cx="7128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362320" y="1447920"/>
            <a:ext cx="380988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ork Sample Checklis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3041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9:55:02Z</dcterms:created>
  <dc:creator>Melissa Farmer</dc:creator>
  <dc:description/>
  <dc:language>en-US</dc:language>
  <cp:lastModifiedBy>Melissa Farmer</cp:lastModifiedBy>
  <dcterms:modified xsi:type="dcterms:W3CDTF">2010-08-06T16:21:26Z</dcterms:modified>
  <cp:revision>7</cp:revision>
  <dc:subject/>
  <dc:title>Motion</dc:title>
</cp:coreProperties>
</file>